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D220-FF4F-4B98-90AC-9697A9F06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0533-49B5-4FAA-A339-BBC8D7AD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9D922-E286-4DDD-B505-13B2CAB8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0E94D7-C3A7-48C1-9B93-733E2357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137F8-51F9-4CAD-AA50-FD7D8C4B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2E7D4-7A28-40EA-AA10-FAEB3623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651BB-D5A1-4C61-A02C-713A91EA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F0E57-B5F7-4C27-9686-E858841E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C14E4-CDE6-4148-B15F-CA85CBDB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B6209-7761-435D-9E77-10ED80981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44ACC-A43B-485F-9395-0F93FA9F6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9EECB-57AC-40CD-AC9A-AAFCDFCD7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1E6A-8F74-489D-B849-078581798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76B78-4FCB-4E99-A36E-FF46379D7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9F6AC-3E29-4C57-8329-3B8D76E1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402F2-A976-4024-8068-6C1D50F4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88F5E-DD9B-4505-9C2D-23B70DB1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67BEC-C2A0-4656-AB0F-B8C5FBDB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2F810-91A0-46AD-AC32-9ACE4BE6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B09E0-6AE0-4B62-B928-FD4393A2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8BDE3-40F8-44E6-B2AD-800C940E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B0D22-FD32-4BA8-817A-328EE4B4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B6AD1-F8FD-4225-93A1-43293DA66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DEF8-62AD-402A-ABBC-8DBF4A086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14469-ECCC-4249-891B-D13819853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61CE4F-95C2-4F12-B40D-371D671C6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E6B4F6-D8AD-4F19-ACB7-D865B969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FE6E1-FD32-4A9F-BF78-C46C2B2B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4424D1-71BE-47A1-B3F7-31D244DC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22C7C5-9F30-4E46-A63F-1738072D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766CCE-DBD1-434D-9EE6-751E7624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856206-9621-4145-8A8D-34F80122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48DFFA-6EBC-4A46-91A6-B2CF61F0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0E34B0-9A52-46EF-BD9E-87D1AC7D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1E90B4-F1EE-4EE7-B639-A6C07953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2E5B6-B57B-4C5D-8E18-8C811BD55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4BFEE-78A9-4BF4-B536-AEC733973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8B8898-6C71-4CCE-BB53-50253D7EC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30F44D-666B-4750-9089-0E72A2DD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0A5EEF-E9D0-4482-91E0-2772073C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EB9E28-499E-447F-8F78-D80E03D2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7D0CBA-DD1F-4A88-8441-7A6655CD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9FEB6E-18C5-4991-AA28-F945F14B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51CAFB-C391-4AD5-9F00-550D71B5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C82D9C-1BD6-4358-9203-F6BD9293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CF928-D436-4C76-96C9-4D66C534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9CCDDD-C462-448E-9047-88980A9F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81A373-CEBC-491D-9233-906723D77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4B890-856A-4221-85B5-4160EFC49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8458B-B92E-4C63-B0B5-EA335A9C1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E8B20-6483-4C9C-AFEB-BF0163A8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277624-FD37-47C5-AAFF-30A90DF0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FB0D5-F42B-44C3-BB1A-479A11B1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198BC-A5F6-4C7E-89FD-64B60290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9C6A7-2C36-4C49-9E99-7C3B1E5C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A5ABD-770F-4DBD-8FEE-19BE3311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DCA96-EA53-4864-A7FC-D4316050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CF37E-0B48-4A86-B646-F259D3B6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C5262-0BD1-4789-99E2-4DBFE1614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25B5C-35A4-4D3C-9E44-42F2C789D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A40E9-E496-485D-8284-942B0683F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6DC725-3F8C-460E-AC9A-2068FBDD8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9AD8E2-7F18-4D81-9BB2-B4E3F05E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51E304-4442-45E8-AD4A-F808BEEE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4BCC95-FB69-4F19-9845-B9C4B2FD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6720A-B29A-4590-B36F-D61D8C30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7EB7B5-B4B5-4D3B-B2C2-C0FBF059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B1BC01-2CE6-4E3A-9CE0-908C65C7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0813F0-AF16-473F-91D1-DF99F170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50C9BD-B919-484E-A58A-B6F67575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7BF209-2410-4F0C-A581-C8221D55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015ED5-1550-4557-98BC-05C118C58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B482E7-DC10-4DB5-AF87-305A75EDA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91AB3D-CE24-4748-AE75-D61359F26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2EE162-2C99-494B-942E-9C60EE5F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AD93A6-6D0C-4A8C-8A13-E5BD8F9F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5C54DD-94DF-40F9-88EF-E2416B77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B98009-C6B1-46A7-9CFA-5A6DB2FEF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58374E-7365-45B8-B0A1-BD7B1464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1F7173-C337-40F9-A1C8-AA43654F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E214F4-CAA3-414F-9D66-2B92956D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4449E1-14BB-4A88-A6EE-32FCB085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FFC93E-6CAE-4FC4-A900-092AA92E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3CFC70-6925-43F9-94A1-91370DD73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F3D54C-F33D-4685-AB43-A3521B03A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F82E56-BBA4-4C5A-B88B-C358191A6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4111B8-3184-436D-8135-F4BA564A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C535B7-2E02-458B-B1D7-4482DBCC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199279-AC1B-4406-903B-0C4613E3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068B5E-00B6-4AE9-93E6-37A8F3D5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494543-14CB-4E0B-841F-04F28850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404199-6726-41FC-A51A-DB7A4942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9C4C38-C74B-4981-A9AD-0155367F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D0D066-B9A0-456D-9297-F8AC1478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A01A18-B1C6-4ED2-AD02-F8DC03EE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AC1BF4-C3F6-4435-9F07-AD2DA6758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EDE394-76EF-4327-B744-2FE802331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C685FE-0273-48A2-92A0-F04909A62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541E5A-1E25-46BD-B8A5-CA58CCAE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46DB10-6EE8-4D80-AA9C-B4C5E854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078ACD-2D35-4594-9288-6C0747B9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65B762-D35F-4454-81DD-5B9DEA51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860F46-C9E6-4601-84C3-94303C2B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5A8E7E-1447-437B-99E0-ED43FE1D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7F27-1989-4E23-AD83-81BA83E7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E2DA16-7A92-422B-AE41-5C76A135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07163D-6BC7-4A6B-9458-3E7A1B9B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39C904-5A06-4093-8F64-1A0A5F93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72C78C-F348-469F-8FD9-404091288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864B57-F2B5-4462-93BA-850BBBFEC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4AC19B-A371-4AE6-B054-D10058B7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BBFBB3-BE42-4706-8FEA-72A90C68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FBC19F-A45B-4C83-A3B5-E1B00ED4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C59F7B-7CCE-49F5-91F3-A2416609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44A436-9186-4725-89AE-48A66985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3EAC86-D0F7-44E1-9E90-E6D29C08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80495C-0C1A-45E4-9206-7F0A4F43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473D39-52E6-4B32-8201-A9B87DE5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0F68B1-3AF4-4523-BE3A-D05A0C38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8FC92E-23BA-4FAE-BDAA-DFBF5C98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25F918-3D8F-44D8-88B9-EE9A3DA86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1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2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776561-554E-4D60-95E4-C5D36FE13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DCB1CE-EF93-4EC2-9F1F-153862C10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EE21FF-C698-48DD-8B6F-9237CD2D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84178B-46E0-4238-A269-105E8149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E4A139-9470-4341-94B8-FC752A9D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CB4E6E-524C-4DE1-9F5A-04C38ECF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3BD54A-9E29-4302-B748-A4E7F26D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3345B6-C6F9-4E50-8C3E-C7C67D90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562EB3-6F1F-4817-B4B7-B0C6D7FE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5F0E44-F56F-4F19-A182-FE8FFE88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241DE3-A546-4731-8588-F777A8C8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01BBAA-63F9-4E4E-91C8-4AC786FEE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FC6E00-F977-4BE6-950B-1E6D79FD6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4F706F-8278-4487-A207-13789A67B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453571-A6CB-4685-93C0-F1EBE3873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893EBB-F1AE-47BD-B192-99E8B73E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4F7A65-170C-49B4-97CE-37E746ECB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52847F-5E46-4015-8D80-23A87D3A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8A74B3-2C48-4420-95F0-D75ADADC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F3F304-68C9-4FB8-BB82-CE7905B7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058F75-1D49-401A-B38D-9FFF0D5D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7289D8-B24F-4645-8AC3-4D857AB1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94F087-DB9A-4210-B7C0-CD5115A4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DD3B2D-60CF-4C58-8BDE-1DE1BB1FF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31AECD-21F6-4EA4-804F-C6ED04BD8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27A34A-8BDC-4847-ABE0-8E412349A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114A02-D973-4935-B53B-58FB6579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0D6E49-968A-4B6C-B274-3D76BEDB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5BD2DA-00CB-4987-BB7D-D883C727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7AF390-E4F8-4AA2-9610-4AFC0851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DC22EC-34E0-4240-99FA-B8CD50E0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070B71-42F5-498A-B36C-E5365CCD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B0EBB8-DA18-4175-AA3B-929AD671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087790-8ACE-43F0-8BBB-2E844EE2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7DA2F4-15D8-4E1C-8E8F-7F69997B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7D364E-CE64-4CD8-A320-90C34C50E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422F8B-549A-4F0C-893F-3048B748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8F9E8B-0389-447A-ABE6-F38F8E308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EB0E4B-6556-4E61-A499-621139FD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758040-9A1F-4C0B-A261-FF9D78FC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7D1611-83AF-431F-956C-98434835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97403C-1F7C-4390-B08D-A5EA67AC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8093D2-E3A7-4A63-89F3-465211CD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77EB44-0036-4E3F-A4A3-8EBC9267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6DB6FD-BC4A-4452-9223-995828AC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59BA37-4A2B-4867-8927-10A2BAFC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B44097-0419-4521-8BFA-21961127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5D1BA2-4EA9-4160-AC44-124CFA8F5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6B9931-6339-4DD1-B715-9C08CC87D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F10900-15FF-4C9E-AC57-CD646B68F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9F8E1F-0C01-4B06-A103-55EBB660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A70FD3-47B0-4092-81DD-9961969C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0CD99A-0518-4610-841F-C61666AE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6631F9-B5E7-4757-8246-6753CC24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DF5499-8A09-4874-B5DA-DC23BA4D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1B995D-0EEF-4455-94B7-A3B7AC18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68E83B-7A77-4214-9A47-24C1F95C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9D731C-1C35-423D-87F9-B0824E4F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9E2E13-B4A9-47C3-AEF1-A212B8D5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9C5B08-3F0C-4FF0-8C77-9461C0FC0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0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1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2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3AB9A2-0384-48C5-BEA3-3FE99B168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6F1C73-D340-449B-BAB2-B6D5B326A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FBBFC6-0A7C-48F8-A5C7-30032DB6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DC4CEE-9B47-4AC4-8821-814A2C9B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05ABC8-1BA9-45EE-8DB7-7AEA9A43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2BADE5-0FB0-49F6-80CB-F3F681F3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1304A9-8917-4903-BF24-DF987BD0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FF01F4-FF7C-4487-A7FF-BB59F962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19E4E6-5749-4E24-86F8-D415E609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BFB1CE-89EC-4740-B960-90A26303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8ADBB9-F09B-4A59-9D06-8817BAF4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297CF3-6BCD-4C0A-A90D-16882DADE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2D06EA-5174-4774-8C71-7B7218CE3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6D2E-0CF1-4BE7-AB3A-A8C89CCB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C9E0-A5E8-4171-BFE8-6C4D7FF4F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8B33-0069-4A94-8BA8-A3F02144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2B1F-0EBF-4D00-808C-FED90175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C800-B82B-4250-8390-D61020CC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15FF-76A3-4488-808D-3DFA0564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DFF9-2D2D-4E90-A696-4B5AF8C5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3EA8-0D07-45F9-9F48-7296E8AD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65BF-F4C3-433A-BCDB-F3E8D2FA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371D-9613-4E97-A9AF-AF25B178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26FE-2AE4-4E29-845D-E45939C4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7BFA-ADDD-4570-B1E0-788E0D81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D590-8564-4130-8D64-F6C2E0020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252B-8E02-4147-B1CD-AD50B0CCA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6FE6A-CBB8-4813-901B-E2367B7AD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536D-7889-487F-8CE2-117E3AA5C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C5F35-C5DC-4DD0-A164-8341F085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740F3-10A2-494C-AA66-40C1286D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4C86F-5D11-4940-82F5-0BD7789D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7D1E1-A1A7-45FD-83EA-B68FD6C8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A34B0-5485-4535-8BD1-37280BFB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3CFB6-86E3-43DE-A6C2-7DB52469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105BC-1DA9-4C19-83D0-2DFE1411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45C7E-61DD-494E-9173-0CFC3566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C616D-C932-43F7-8705-C30DE5D0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A7FC8-F34D-40D4-A9E0-1DE94FAF1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5E80-0F99-4B3F-9392-AAAB8C31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E0B91-4FAF-4ABE-AE77-7F3D5749C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A3B87-3846-4FB9-97C0-E50EB3181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E5888-E2A9-4C05-B088-DE6354FB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B7D25-408E-4870-A311-DD1355EA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36265-5528-4082-B837-B5A234F0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479CC-7AC8-4830-80EE-9DD31788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AA2CE-7FC7-42A6-AD43-26700799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56362-D60F-4FAB-A90B-FED1EC3F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0B957-B8EE-4411-AF88-B745767C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8EA87-DC99-4CDF-B47C-FBECF18A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CA8D-6629-4FFB-8F7B-4505CCAB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EB6AF-DFE2-44FE-8924-F4791F70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8CD5A-4FD5-4425-ADC2-4B5A46C28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F6744-9511-4AE5-A69B-D978A4FAC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FCBD1-9850-4E2C-B469-7ED19B325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CA563-4188-4EF4-A288-3D4BFCEB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4145A-B441-4990-98E3-4D818FCF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50B9A-D578-4BDF-BF75-71FD6AEC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7999B-9E4E-4DDE-AF8C-3AEE7A74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1E67C-B580-4663-96C2-4CD10A49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56D15-7F6B-464D-BF3D-61F94F59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FF55-D19A-4835-8D7E-97B6893D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93394-EA47-4A13-841D-A7F02E4D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214F6-0233-44D4-8783-597C54AA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863B2-7585-4524-866C-797495B7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A720A-07E3-4115-A1C1-3133CF2D1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F7D32-4A98-47FF-99D6-999A25C09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CED7B-3FA8-48C4-8370-26E9B4B22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D77A5-C22B-4E38-87DF-7AD6F2E2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37B73-A1D8-438D-84E1-30D4D643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66E0C-760C-448B-B0F9-7FC4FCB8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12E1B-B5F1-4A66-991D-82194F84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3753-34CF-401F-A856-691ADF8F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628C8-849D-4B07-BA81-4FE762CD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DFE23-0108-46A4-8886-95414834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BE14D-F94C-48E8-9430-08E9D65D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DD083-32E3-4FB6-B86D-D309F0E1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F75F2-F1EE-44BF-8C67-0E95D076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56BF9-6621-4196-84AE-BB4021099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B7905-43BF-467C-A8A7-E666C3699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93B1E-155A-4B0D-9F24-AA44E26CD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393B2-3563-4512-A8D4-41F759D4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413A5-1104-4918-9960-2DA2A51E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E928-A0CA-4C80-BDC3-F581BCC400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548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9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50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551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2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3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4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5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6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7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8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9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560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dt" idx="22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ftr" idx="2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sldNum" idx="2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2D8B-69FA-45AD-9332-54191CCC32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608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9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0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611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2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3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4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5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6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7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8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9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20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dt" idx="25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Num" idx="27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8990-BAD9-42C0-BF03-4FDF828A9B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668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9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70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671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2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3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4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5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6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7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8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9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0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dt" idx="28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sldNum" idx="30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5328-9759-4486-A354-5B84F39000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728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9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30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731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2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3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4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5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6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7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8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9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740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7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dt" idx="3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 type="sldNum" idx="3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4909-53B2-497B-B1D7-15083B962E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7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788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9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90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791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2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3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4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5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6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7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8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9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800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4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6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7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dt" idx="3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ftr" idx="3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sldNum" idx="3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EE5D-1E11-44BA-A850-32C289A8D5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7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848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9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50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851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2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3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4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5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6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7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8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9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860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61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62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3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64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865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6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7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8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9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70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871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2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3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74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875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6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7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8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9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80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881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2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3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4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5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6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87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888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9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0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1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92" name="PlaceHolder 1"/>
          <p:cNvSpPr>
            <a:spLocks noGrp="1"/>
          </p:cNvSpPr>
          <p:nvPr>
            <p:ph type="dt" idx="3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ftr" idx="3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 type="sldNum" idx="3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2A3E-D2DA-43D8-A116-4017924E01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1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932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3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34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935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6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7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8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9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0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1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2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3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944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45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946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7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48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49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0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1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2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3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54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55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6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7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58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959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0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1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2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3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64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965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6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7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8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9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0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71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972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3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4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5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dt" idx="4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ftr" idx="4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sldNum" idx="4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1DCF-788F-42F7-9A36-73EDA03B96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5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016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7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018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019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0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1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2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3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4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5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6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7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028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29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030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1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32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033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4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5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6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7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38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039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0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1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42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043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4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5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6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7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48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049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0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1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2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3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4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055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056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7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8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9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60" name="PlaceHolder 1"/>
          <p:cNvSpPr>
            <a:spLocks noGrp="1"/>
          </p:cNvSpPr>
          <p:nvPr>
            <p:ph type="dt" idx="4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ftr" idx="4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 type="sldNum" idx="4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A43C-2A48-4DF5-BEBE-B69544EE4B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9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100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1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02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103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4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5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6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7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8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9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0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1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112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13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114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5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16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117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8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9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0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1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22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123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4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5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26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127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8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9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0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1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32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133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4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5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6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7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8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39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40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1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2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3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44" name="PlaceHolder 1"/>
          <p:cNvSpPr>
            <a:spLocks noGrp="1"/>
          </p:cNvSpPr>
          <p:nvPr>
            <p:ph type="dt" idx="4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ftr" idx="4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 type="sldNum" idx="4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8D74-6D0A-4B62-8D49-58F16CA539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3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184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5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86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187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8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9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0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1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2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3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4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5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196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97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198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9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00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201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2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3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4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5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06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207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8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9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10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211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2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3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4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5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16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217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8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9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0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1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2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23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224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5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6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7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dt" idx="49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ftr" idx="5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sldNum" idx="5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5262-4A0B-4B53-B5C8-1BE69D7D6F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55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7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58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7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7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268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9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70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271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2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3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4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5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6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7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8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9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280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81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282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3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84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285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6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7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8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89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90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291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2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3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94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295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6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7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8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99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00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301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2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3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4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5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6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07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308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9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0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1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12" name="PlaceHolder 1"/>
          <p:cNvSpPr>
            <a:spLocks noGrp="1"/>
          </p:cNvSpPr>
          <p:nvPr>
            <p:ph type="dt" idx="52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ftr" idx="5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sldNum" idx="5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601B-2BB8-4AC8-96AC-FC83195A53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1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352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3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354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355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6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7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8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9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0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1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2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3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64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65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366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7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68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369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0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1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2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3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74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375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6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7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78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379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0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1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2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3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84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385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6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7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8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9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0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91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392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3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4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5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96" name="PlaceHolder 1"/>
          <p:cNvSpPr>
            <a:spLocks noGrp="1"/>
          </p:cNvSpPr>
          <p:nvPr>
            <p:ph type="dt" idx="55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ftr" idx="5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sldNum" idx="57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FA42-3C55-4199-8747-F2B6117902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5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436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7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438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439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0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1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2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3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4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5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6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7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448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49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450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1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52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453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4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5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6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7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58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459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0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1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62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463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4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5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6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7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68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469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0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1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2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3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4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75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476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7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8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9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80" name="PlaceHolder 1"/>
          <p:cNvSpPr>
            <a:spLocks noGrp="1"/>
          </p:cNvSpPr>
          <p:nvPr>
            <p:ph type="dt" idx="58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ftr" idx="5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 type="sldNum" idx="60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9BC4-97E5-4BB9-9A91-D303B65ECB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9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520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1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522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523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4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5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6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7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8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29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0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31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32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33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534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5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36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537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8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9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0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1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42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543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4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5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46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547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8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9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0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1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52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553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4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5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6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7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8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59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560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1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2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3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64" name="PlaceHolder 1"/>
          <p:cNvSpPr>
            <a:spLocks noGrp="1"/>
          </p:cNvSpPr>
          <p:nvPr>
            <p:ph type="dt" idx="6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 type="ftr" idx="6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 type="sldNum" idx="6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1335-13C0-49EE-BE3B-03D201D22B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3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604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5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606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607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08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09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10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11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12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13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14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15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616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17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618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9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20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621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2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3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4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5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26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627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8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9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30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631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2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3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4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5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36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637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8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9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0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1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2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43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644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5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6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7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48" name="PlaceHolder 1"/>
          <p:cNvSpPr>
            <a:spLocks noGrp="1"/>
          </p:cNvSpPr>
          <p:nvPr>
            <p:ph type="dt" idx="6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ftr" idx="6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 type="sldNum" idx="6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5C8A-0F7A-434C-99B1-564F42A2E3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12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4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15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24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5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26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8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29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4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35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38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39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44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45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1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52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93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96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99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200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D623-C778-4D58-A065-BC05F3BF51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248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9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50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251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60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EAB8-2DC9-45C5-9BF1-0013F80DF8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308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9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10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311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20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E7B3-AA31-4E7E-B60F-D95CE5DC32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368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9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70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371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2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3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4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5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6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7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8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9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80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dt" idx="1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8C44-F8FA-4E30-9715-82C8299933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428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9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30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31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2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3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4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5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6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7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8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9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440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dt" idx="1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1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438B-B145-49E0-BCB4-D8CF203640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488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9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90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91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2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3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4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5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6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7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8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9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500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Respond Question Mas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dt" idx="19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2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8E8F-5C8A-49DF-9A57-3C3395B624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Hyphens, Dashes, Brackets </a:t>
            </a:r>
            <a:br>
              <a:rPr sz="4800"/>
            </a:b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&amp; Parentheses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h. 15 Holt Handboo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ash Exampl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Mrs. Baum – she just left– will be one of the judges of the talent sho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Right over here – oh, excuse me, Mrs. Musschoot– you’ll find the grammar books,” said Mrs. Hlina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Erin began, “The murderer is – but I don’t want to give away the ending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yphens -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le 1: Use a hyphen to divide a word at the end of a l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xamples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rs. Hlinak’s students wrote very care- ful punctuation no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rs. Hlinak expects her students to ap-ply the punctuation rules to their wri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6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Rule 1: Use a hyphen to divide a word at the end of a line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: Divide a word only between syllab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Incorrect: tyra-nnosaurs   Correct: tyran-nosau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: Do not divide a one-syllable wor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Incorrect: play-ed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orrect: play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: Divide an already hyphenated word at a hyph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Incorrect: great-un-cle Jam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orrect: great-uncle Ja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: Do not divide a word so that one letter stands alone.  (It gets lonely!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Incorrect: i-magined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orrect: imag-in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yphens -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le 2: Use a hyphen with compound numbers from twenty-one to ninety-nine and with fractions used as modifi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hirty-five 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orty-eighth st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one-third pint of mil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6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6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yphens Rule 3: Use a hyphen with…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refixes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all-, ex-, great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and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self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all-st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ex-princip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great-au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self-confid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uffixe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elect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–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fr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resident-el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sugar-fre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prefixes before a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proper nou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proper adjec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id-Septemb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pro-Americ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Hyphens -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le 4: Hyphenate a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ompound adjectiv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when it precedes the noun it modif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well-worn boo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mall-town gir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Do not use a hyphen if one of the modifiers is an –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l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adver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terribly bad co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6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6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arentheses (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parentheses to enclose material that is added to a sentence, but is not considered of major importanc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The American writer Langston Hughes (1902-1967) is best known for his poet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You should try that orange juice. (It’s freshly squeezed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No, set that ladder (watch out!) over the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y great-uncle Ed (he’s Grandma’s brother) is od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Brackets [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]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brackets to enclose an explanation or added information within quoted or parenthetical materi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The final speaker said, “If you don’t allow them [the umpires] to do their jobs, we might as well not play the games.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The next president (he was Ulysses S. Grant [1822-1885]) continued the Reconstruction program while trying to protect the rights of former slav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ashes –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y words and phrases are used parenthetically, meaning they break into the main thought of the sentence. Most of these are set off by commas or parenthes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le: Use a dash to indicate an abrupt break in thought or speec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uld be used sparingly for special emphasi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7:15:40Z</dcterms:created>
  <dc:creator>Erin Hlinak</dc:creator>
  <dc:description/>
  <dc:language>en-US</dc:language>
  <cp:lastModifiedBy>Nadia Williams</cp:lastModifiedBy>
  <dcterms:modified xsi:type="dcterms:W3CDTF">2014-03-07T17:24:57Z</dcterms:modified>
  <cp:revision>5</cp:revision>
  <dc:subject/>
  <dc:title>Hyphens, Dashes, Brackets  &amp; Parenthesi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owTimer">
    <vt:bool>1</vt:bool>
  </property>
</Properties>
</file>